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6F2-EBD2-4B12-8039-6B8561F0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FC7-19EA-4AE4-A083-BC489F9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05E-A372-46B5-8B72-D0875AEE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B69-2C53-4E42-A5F7-8EE75E9F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C9E-16EE-4705-8E4A-74D60DA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259-E499-411C-80F4-23B4AB2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429-438E-4CC7-B1F2-8167DE7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EEE-4827-4C29-B3E2-655283C6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C8C-66AD-49F7-AA19-04C96F2D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CD5-6F88-4C69-A3AB-8895DFC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374-5ECA-42A2-8640-33E43C3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FDC-4A40-4966-B11F-334C948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E54-A0C9-4B84-B129-A5FCB4383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olparty.com/quotes/images/2007/09/24/andy_warhol.jpg&amp;imgrefurl=http://www.poolparty.com/quotes/andy_warhol/&amp;usg=__VuBtjq0T17yQzNdtqik7fyXXvdE=&amp;h=532&amp;w=475&amp;sz=48&amp;hl=en&amp;start=5&amp;sig2=b5CkIM_794J9IEETi-PANg&amp;tbnid=1y6KWQt6JOFz7M:&amp;tbnh=132&amp;tbnw=118&amp;prev=/images%3Fq%3Dandy%2Bwarhol%26gbv%3D2%26hl%3Den&amp;ei=84n4SsmCK4yCNrLT_eg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4.bp.blogspot.com/_2Z9Kxv7YNNw/SSMETWhxWeI/AAAAAAAAARw/mf43VxtaMOQ/s400/Andy-Warhol-Mickey-Mouse-8380.jpg&amp;imgrefurl=http://tenfoldcollective.blogspot.com/2008_11_01_archive.html&amp;usg=__HG9RQzI9FhTsYbB8CieS4PvNwr4=&amp;h=400&amp;w=400&amp;sz=30&amp;hl=en&amp;start=12&amp;sig2=2NFgB6R0aAoU4hyeDHdmaw&amp;tbnid=B8UbuvpngBNnCM:&amp;tbnh=124&amp;tbnw=124&amp;prev=/images%3Fq%3Dandy%2Bwarhol%26gbv%3D2%26hl%3Den&amp;ei=84n4SsmCK4yCNrLT_egF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dy.warhol.szm.com/file/andy-warhol2.jpg&amp;imgrefurl=http://andy.warhol.szm.com/foto.html&amp;usg=__Zvd4CzJCd7oyrdzFPg8ch9vprl4=&amp;h=450&amp;w=449&amp;sz=19&amp;hl=en&amp;start=10&amp;sig2=ZQ2qL1VqsalLYrhGVVDRhQ&amp;tbnid=yLyINuCwomoDUM:&amp;tbnh=127&amp;tbnw=127&amp;prev=/images%3Fq%3Dandy%2Bwarhol%26gbv%3D2%26hl%3Den&amp;ei=84n4SsmCK4yCNrLT_eg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matiu.com.ar/wp-content/uploads/2009/01/andy-warhol-campbell_soup-can-121207-1.jpg&amp;imgrefurl=http://blog.matiu.com.ar/apropiacion-artistica-en-videos-juegos/&amp;usg=__-XcNxjjtZyqrwifdR33qGFepjNg=&amp;h=480&amp;w=318&amp;sz=36&amp;hl=en&amp;start=6&amp;sig2=wrh9B7Pj82ghM5HhmgcMYA&amp;tbnid=0wpvWy4dM8egiM:&amp;tbnh=129&amp;tbnw=85&amp;prev=/images%3Fq%3Dandy%2Bwarhol%26gbv%3D2%26hl%3Den&amp;ei=84n4SsmCK4yCNrLT_eg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reehugger.com/andy-warhol-banana.jpg&amp;imgrefurl=http://www.treehugger.com/files/2009/03/banana-eating-fairtrade.php&amp;usg=__MpUHLmcEMPE-KOwlRb5903RYKl0=&amp;h=468&amp;w=468&amp;sz=36&amp;hl=en&amp;start=119&amp;sig2=aAQeEd_vq3Fd1NLDfgPkjw&amp;tbnid=7z6OJZddctGFlM:&amp;tbnh=128&amp;tbnw=128&amp;prev=/images%3Fq%3Dandy%2Bwarhol%26gbv%3D2%26ndsp%3D20%26hl%3Den%26sa%3DN%26start%3D100&amp;ei=R434SreQIYjGMLfL9Og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tfaoi.com/am/2am/2am70.jpg&amp;imgrefurl=http://www.tfaoi.com/newsm1/n1m188.htm&amp;usg=__waqUKUNHGcVOBhcSxXPrQNWkSDo=&amp;h=526&amp;w=333&amp;sz=38&amp;hl=en&amp;start=17&amp;sig2=8aqDh95xU4Aq0iWI8MyEmw&amp;tbnid=IjIULVHb7zeJ8M:&amp;tbnh=132&amp;tbnw=84&amp;prev=/images%3Fq%3Dandy%2Bwarhol%2Bpaintings%26gbv%3D2%26hl%3Den&amp;ei=8434SuzvB6WwNIf3-OgF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wwff.files.wordpress.com/2007/05/cocacola.jpg&amp;imgrefurl=http://wwff.wordpress.com/2007/05/03/the-pop-in-pop-culture/&amp;usg=__irLi7C07w0vmgf2tXhp3ISYOyLc=&amp;h=375&amp;w=280&amp;sz=39&amp;hl=en&amp;start=19&amp;sig2=nf8ks6VzNc0XI-C2vtmAEg&amp;tbnid=DG8B-iVCsYGYVM:&amp;tbnh=122&amp;tbnw=91&amp;prev=/images%3Fq%3Dandy%2Bwarhol%2Bpaintings%26gbv%3D2%26hl%3Den&amp;ei=8434SuzvB6WwNIf3-OgF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anthonymeierfinearts.com/inventory/images/warhol.jpg&amp;imgrefurl=http://millinerd.com/2004/04/warhol-in-closet.html&amp;usg=__2yO4EJAQYGL51h-gqul6guFxtQ4=&amp;h=330&amp;w=334&amp;sz=44&amp;hl=en&amp;start=78&amp;sig2=Gw7vx-n3pUYIS3B2Inmsfg&amp;tbnid=vldN_aT5ApdUxM:&amp;tbnh=118&amp;tbnw=119&amp;prev=/images%3Fq%3Dandy%2Bwarhol%2Bpaintings%26gbv%3D2%26ndsp%3D20%26hl%3Den%26sa%3DN%26start%3D60&amp;ei=M474So_6FIqqMI_UrOkF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gothamist.com/attachments/arts_jen/200801warhol.jpg&amp;imgrefurl=http://mobile.gothamist.com/2008/02/06/warhol_1.php&amp;usg=__mVOMOWPJg40smRpWPdXyFbJeAQw=&amp;h=307&amp;w=240&amp;sz=62&amp;hl=en&amp;start=69&amp;sig2=4N4avApYY_sZXActymqOYg&amp;tbnid=Ur9aGSqDlNO39M:&amp;tbnh=117&amp;tbnw=91&amp;prev=/images%3Fq%3Dandy%2Bwarhol%2Bpaintings%26gbv%3D2%26ndsp%3D20%26hl%3Den%26sa%3DN%26start%3D60&amp;ei=iY74Svz5GpXWNPi_nekF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eatmodernpictures.com/awcintropicsm.jpg&amp;imgrefurl=http://www.greatmodernpictures.com/pwarhol.htm&amp;usg=__c47qccZxjs6Nm6QCZ3sJq7GKsok=&amp;h=296&amp;w=294&amp;sz=21&amp;hl=en&amp;start=11&amp;sig2=ZgfwXgQALdAt_CaUpXuFjg&amp;tbnid=iLfR-appvqdMgM:&amp;tbnh=116&amp;tbnw=115&amp;prev=/images%3Fq%3Dandy%2Bwarhol%2Bart%26gbv%3D2%26hl%3Den%26sa%3DG&amp;ei=uZD4SrziBIvQM-7A_egF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popartonline.com/photo/main.php/d/8645-3/Andy%2Bblend%2Bdesign4.jpg&amp;imgrefurl=http://cgi.ebay.com/FLOWERS-FOR-TACOMA-DOME-AND-ROLL-ANDY-WARHOL-ART-REMAKE_W0QQitemZ250486876166QQcmdZViewItemQQptZArt_Paintings%3Fhash%3Ditem3a522e6806&amp;usg=__xl0rcOrgiFtzfcw9GTDFajZFk5M=&amp;h=640&amp;w=640&amp;sz=78&amp;hl=en&amp;start=50&amp;sig2=KbqZ8alHlDVHtFfdw7A86w&amp;tbnid=u015uTBIHrftCM:&amp;tbnh=137&amp;tbnw=137&amp;prev=/images%3Fq%3Dandy%2Bwarhol%2Bart%26gbv%3D2%26ndsp%3D20%26hl%3Den%26sa%3DN%26start%3D40&amp;ei=4ZD4St76NKbGNfmVvekF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images.art.com/images/products/large/10071000/10071320.jpg&amp;imgrefurl=http://www.vialin.com/warhol/Warhol_Jackie_1964.html&amp;usg=__wfnEdiD0TmB5tgObklLhlpDP-Vk=&amp;h=439&amp;w=400&amp;sz=37&amp;hl=en&amp;start=71&amp;sig2=Z65QIEzTrg6Ou7XbMEF9_Q&amp;tbnid=-LUF9j0DvhR_VM:&amp;tbnh=127&amp;tbnw=116&amp;prev=/images%3Fq%3Dandy%2Bwarhol%2Bart%26gbv%3D2%26ndsp%3D20%26hl%3Den%26sa%3DN%26start%3D60&amp;ei=_pD4StBKg7I2icSE6QU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th09.deviantart.net/fs25/300W/f/2008/129/f/9/Twiggy_Andy_Warhol_style_by_Toast2023.png&amp;imgrefurl=http://toast2023.deviantart.com/art/Twiggy-Andy-Warhol-style-85101477&amp;usg=__RID4kfSryHaQ-w07WHJcuPAoXHI=&amp;h=299&amp;w=300&amp;sz=24&amp;hl=en&amp;start=79&amp;sig2=vCyyW1jphEV7PI8h7X7fLw&amp;tbnid=L822C29ApHdT8M:&amp;tbnh=116&amp;tbnw=116&amp;prev=/images%3Fq%3Dandy%2Bwarhol%2Bart%26gbv%3D2%26ndsp%3D20%26hl%3Den%26sa%3DN%26start%3D60&amp;ei=_pD4StBKg7I2icSE6QU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4.bp.blogspot.com/_vv2apE4fG3M/SJMePlVIgCI/AAAAAAAADH4/MF7ZF5OuCY0/s400/lennon_warhol-766729.jpg&amp;imgrefurl=http://www.kirafashion.com.br/2008/08/pop-art-for-weekend-andy-warhol.html&amp;usg=__ubSBW2t_pEvSBIFIuq-LzdsGHyY=&amp;h=400&amp;w=394&amp;sz=42&amp;hl=en&amp;start=113&amp;sig2=ofRQfGjbmz8Oq0ZMmBa_qg&amp;tbnid=viKOvzfYgUSHAM:&amp;tbnh=124&amp;tbnw=122&amp;prev=/images%3Fq%3Dandy%2Bwarhol%2Bart%26gbv%3D2%26ndsp%3D20%26hl%3Den%26sa%3DN%26start%3D100&amp;ei=PZH4SojfIJnUNNOykOkF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images-0.redbubble.net/img/art/size:large/view:main/1390503-1-andy-warhol-barbie.jpg&amp;imgrefurl=http://www.redbubble.com/people/tarafilliater/art/1390503-1-andy-warhol-barbie&amp;usg=__POcWmz-2pXeAgABoUlQAGX_EeHI=&amp;h=550&amp;w=444&amp;sz=135&amp;hl=en&amp;start=137&amp;sig2=uknepVGIoLdhmq3Zjgh3Eg&amp;tbnid=ETEZXSGvoBaI1M:&amp;tbnh=133&amp;tbnw=107&amp;prev=/images%3Fq%3Dandy%2Bwarhol%2Bart%26gbv%3D2%26ndsp%3D20%26hl%3Den%26sa%3DN%26start%3D120&amp;ei=z5H4SobQGpCMMtOm-OgF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06.deviantart.net/fs29/300W/i/2008/147/c/9/Andy_warhol_ish_audrey_hepburn_by_broomstick16.jpg&amp;imgrefurl=http://broomstick16.deviantart.com/art/Andy-warhol-ish-audrey-hepburn-86752560&amp;usg=__aUyrCs9uwAkh-W3Dttl7S0S4ccc=&amp;h=360&amp;w=300&amp;sz=36&amp;hl=en&amp;start=130&amp;sig2=JGBr7J9qy1q_xL7y56e-uw&amp;tbnid=PEa2S8vP95S3VM:&amp;tbnh=121&amp;tbnw=101&amp;prev=/images%3Fq%3Dandy%2Bwarhol%2Bart%26gbv%3D2%26ndsp%3D20%26hl%3Den%26sa%3DN%26start%3D120&amp;ei=z5H4SobQGpCMMtOm-Og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eviantart.com/download/80363047/Converse_Andy_Warhol_style_by_RoguePunkChic.png&amp;imgrefurl=http://roguepunkchic.deviantart.com/art/Converse-Andy-Warhol-style-80363047%3Foffset%3D0&amp;usg=__t7NNk0WCi5Z7-gF3GZyVpISaN5o=&amp;h=614&amp;w=797&amp;sz=332&amp;hl=en&amp;start=58&amp;sig2=PbYyD_sGcChuxmSunbXV_Q&amp;tbnid=SKz9ISoWCEGW2M:&amp;tbnh=110&amp;tbnw=143&amp;prev=/images%3Fq%3Dandy%2Bwarhol%2Bart%26gbv%3D2%26ndsp%3D20%26hl%3Den%26sa%3DN%26start%3D40&amp;ei=HZP4SuC6PIWONuiZjOkF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imagecache5.art.com/p/LRG/8/887/8OLJ000Z/andy-warhol-four-monkeys.jpg&amp;imgrefurl=http://www.art.com/products/p10293892-sa-i887958/andy-warhol-four-monkeys.htm&amp;usg=__fP1d46eUdGNX4yMcxQ-dKSRuJJA=&amp;h=450&amp;w=348&amp;sz=85&amp;hl=en&amp;start=78&amp;sig2=xrcQd_eOE22LC2GD2bU95g&amp;tbnid=h7N2k1jWM32biM:&amp;tbnh=127&amp;tbnw=98&amp;prev=/images%3Fq%3Dandy%2Bwarhol%2Bart%26gbv%3D2%26ndsp%3D20%26hl%3Den%26sa%3DN%26start%3D60&amp;ei=PZP4Sqq4CaPQNMG4_egF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omgreds.com/uploaded_images/AndyWarholPeteRose-767971.jpg&amp;imgrefurl=http://omgreds.com/2008/07/andy-warhols-pete-rose.php&amp;usg=__iVSkApqFl-tSEYbGAQrtOSfJtS4=&amp;h=480&amp;w=391&amp;sz=64&amp;hl=en&amp;start=98&amp;sig2=UR0VuBPiOWHvZhyrEciSCA&amp;tbnid=SWInFKmiFiTQ8M:&amp;tbnh=129&amp;tbnw=105&amp;prev=/images%3Fq%3Dandy%2Bwarhol%2Bart%26gbv%3D2%26ndsp%3D20%26hl%3Den%26sa%3DN%26start%3D80&amp;ei=V5P4StCKDJ22NJqN8egF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funnyphotos.net.au/images/mona-lisa-by-andy-warhol-pop-art1.jpg&amp;imgrefurl=http://www.funnyphotos.net.au/mona-lisa/&amp;usg=__23P5GEi3JyjdkLCDGZvENyNSnTM=&amp;h=402&amp;w=400&amp;sz=37&amp;hl=en&amp;start=116&amp;sig2=gYnPUxARxL9kbGEd8ITJZA&amp;tbnid=G6kHt88fRD6WPM:&amp;tbnh=124&amp;tbnw=123&amp;prev=/images%3Fq%3Dandy%2Bwarhol%2Bart%26gbv%3D2%26ndsp%3D20%26hl%3Den%26sa%3DN%26start%3D100&amp;ei=a5P4SoOPFIXiNZXBoekF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justlikeandy.com/Andy-Warhol-style-Donny-Osmond.gif&amp;imgrefurl=http://www.justlikeandy.com/&amp;usg=__tkfQiS1r5KDMYtczm6_pv3NXbPk=&amp;h=278&amp;w=300&amp;sz=39&amp;hl=en&amp;start=244&amp;sig2=9APv4TVW5bgxnZbwYR_keA&amp;tbnid=12oHh8MABKcWSM:&amp;tbnh=107&amp;tbnw=116&amp;prev=/images%3Fq%3Dandy%2Bwarhol%2Bart%26gbv%3D2%26ndsp%3D20%26hl%3Den%26sa%3DN%26start%3D240&amp;ei=2JP4SvutM5vsNeXikekF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059/PreviewComp/SuperStock_1059-471.jpg&amp;imgrefurl=http://www.superstock.com/stock-photos-images/1059-471&amp;usg=__TYBeb0GTaeCcukTLx9WskaHtlNI=&amp;h=350&amp;w=350&amp;sz=101&amp;hl=en&amp;start=19&amp;sig2=cXWSktyMn9sqKTZRqctmEg&amp;tbnid=qneKR3e4noHICM:&amp;tbnh=120&amp;tbnw=120&amp;prev=/images%3Fq%3Dandy%2Bwarhol%2Bartwork%26gbv%3D2%26hl%3Den&amp;ei=dJv4SqXOI4biMLXGpOkF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images.art.com/images/products/large/10116000/10116386.jpg&amp;imgrefurl=http://www.vialin.com/warhol/Warhol_Zebra.html&amp;usg=__C-h9scbk4fZk__j7BFGXcXIKkc4=&amp;h=450&amp;w=338&amp;sz=71&amp;hl=en&amp;start=41&amp;sig2=X97FA91Szwi7N_poD7fadw&amp;tbnid=-nKcYzsr0faNzM:&amp;tbnh=127&amp;tbnw=95&amp;prev=/images%3Fq%3Dandy%2Bwarhol%2Bartwork%26gbv%3D2%26ndsp%3D20%26hl%3Den%26sa%3DN%26start%3D40&amp;ei=qpv4SqXMFobIMMLd5OgF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seriouswheels.com/pics-abc/BMW-M1-Andy-Warhol-Art-Car-front-lr.jpg&amp;imgrefurl=http://www.seriouswheels.com/abc/BMW-M1-Andy-Warhol-Art-Car-FT.htm&amp;usg=__CFcRTPGirJdAvo5-s7_MnSvvM8Q=&amp;h=879&amp;w=1000&amp;sz=247&amp;hl=en&amp;start=42&amp;sig2=yyTiDO1kD-E8vww6ii_9bw&amp;tbnid=Y-mffKXBKVtxDM:&amp;tbnh=131&amp;tbnw=149&amp;prev=/images%3Fq%3Dandy%2Bwarhol%2Bartwork%26gbv%3D2%26ndsp%3D20%26hl%3Den%26sa%3DN%26start%3D40&amp;ei=qpv4SqXMFobIMMLd5OgF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com/imgres?imgurl=http://images.art.com/images/products/large/10056000/10056249.jpg&amp;imgrefurl=http://www.vialin.com/warhol/Warhol_Daisy_c_1982_fuchsia_and_yellow.html&amp;usg=__FD3ClgMOPvHs-wf-05_PPQuf_lE=&amp;h=442&amp;w=400&amp;sz=64&amp;hl=en&amp;start=59&amp;sig2=qGWKi1_RDas7CIMk4HQsPQ&amp;tbnid=vIFsQyJlMzfAkM:&amp;tbnh=127&amp;tbnw=115&amp;prev=/images%3Fq%3Dandy%2Bwarhol%2Bartwork%26gbv%3D2%26ndsp%3D20%26hl%3Den%26sa%3DN%26start%3D40&amp;ei=qpv4SqXMFobIMMLd5OgF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com/imgres?imgurl=http://images.worldgallery.co.uk/i/prints/rw/lg/1/8/Andy-Warhol-Diamond-Dust-Shoes--1980-181010.jpg&amp;imgrefurl=http://www.worldgallery.co.uk/art-print/Diamond-Dust-Shoes,-1980-181010.html&amp;usg=__RF0_dtOmE81bOEXMYyntdHE0kxE=&amp;h=400&amp;w=314&amp;sz=27&amp;hl=en&amp;start=80&amp;sig2=o45Kz0c7H3GEx7IvhU2afw&amp;tbnid=je4ZXpNNNBAy7M:&amp;tbnh=124&amp;tbnw=97&amp;prev=/images%3Fq%3Dandy%2Bwarhol%2Bartwork%26gbv%3D2%26ndsp%3D20%26hl%3Den%26sa%3DN%26start%3D60&amp;ei=7Zv4SqGUK6K0NMaXiOkF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rysler.org/warhol/images/SelfPortrait.jpg&amp;imgrefurl=http://www.chrysler.org/warhol/SelfPortrait2.html&amp;usg=__kpazr68AQMx30RZZ-jAFTvKIWoI=&amp;h=453&amp;w=426&amp;sz=31&amp;hl=en&amp;start=4&amp;sig2=bghfIxIqhff7N42c6GWoDA&amp;tbnid=hXFz7ONJxdPRBM:&amp;tbnh=127&amp;tbnw=119&amp;prev=/images%3Fq%3Dandy%2Bwarhol%2Bself%2Bportrait%26gbv%3D2%26hl%3Den&amp;ei=dZz4Sq3EFqbGNfmVvekF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leninimports.com/andy_warhol_self_portrait_1986.jpg&amp;imgrefurl=http://www.leninimports.com/andy_warhol_self_portrait_1986.html&amp;usg=__1kBLJxHQseSrrWwfdYbg8E9Lkn8=&amp;h=544&amp;w=396&amp;sz=81&amp;hl=en&amp;start=7&amp;sig2=spOJY5cUaUZJ7eXvcPpwwA&amp;tbnid=1GPVr499LtWhZM:&amp;tbnh=133&amp;tbnw=97&amp;prev=/images%3Fq%3Dandy%2Bwarhol%2Bself%2Bportrait%26gbv%3D2%26hl%3Den&amp;ei=dZz4Sq3EFqbGNfmVvekF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nga.gov/education/classroom/self_portraits/zoomify/warhol_default.jpg&amp;imgrefurl=http://www.nga.gov/education/classroom/self_portraits/zoomify/zoom_warhol.htm&amp;usg=__G0OOQgsBE60RYHNDvBtLDZC74s8=&amp;h=400&amp;w=400&amp;sz=42&amp;hl=en&amp;start=23&amp;sig2=xjsYkpHymUD0P8K2630yiw&amp;tbnid=BV2XizXbtoEQjM:&amp;tbnh=124&amp;tbnw=124&amp;prev=/images%3Fq%3Dandy%2Bwarhol%2Bself%2Bportrait%26gbv%3D2%26ndsp%3D20%26hl%3Den%26sa%3DN%26start%3D20&amp;ei=n5z4SrHTD6LSNJL2uekF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josephklevenefineartltd.com/NewSite/WarholSmallSelfPaint.jpg&amp;imgrefurl=http://www.josephklevenefineartltd.com/NewSite/WarholSelfSmallPaint.htm&amp;usg=__8ZVczT1s39aReIJ5GdjhlSwVQeI=&amp;h=524&amp;w=530&amp;sz=208&amp;hl=en&amp;start=36&amp;sig2=0vrIuCAAbGvxnyR5lnQNAQ&amp;tbnid=OWDDUqFPSI0S8M:&amp;tbnh=131&amp;tbnw=132&amp;prev=/images%3Fq%3Dandy%2Bwarhol%2Bself%2Bportrait%26gbv%3D2%26ndsp%3D20%26hl%3Den%26sa%3DN%26start%3D20&amp;ei=n5z4SrHTD6LSNJL2uekF" TargetMode="External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Andy Warh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259092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 American Pop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86000"/>
            <a:ext cx="207792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44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928 -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rn in Pittsburgh,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entury Artist &amp; Film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57192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Pop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erged in Great Britain during the 195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llenged traditional notions of art saying it was too s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d a meeting ground for artists and layman to come to terms with art – advertising, comics,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d everyday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ffensive to some traditional art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Common Everyday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120492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1905120"/>
            <a:ext cx="123660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676520"/>
            <a:ext cx="1946160" cy="260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4495680"/>
            <a:ext cx="1981080" cy="196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905120"/>
            <a:ext cx="1459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640" y="485640"/>
            <a:ext cx="8422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ascinated with Hollywood and Celeb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1774800" cy="179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6002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662120" cy="181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42670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5080" y="4114800"/>
            <a:ext cx="153648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84640" y="1828800"/>
            <a:ext cx="179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4000"/>
            </a:b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Multi-Image Silk-screen 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828800"/>
            <a:ext cx="185112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51440"/>
            <a:ext cx="2057400" cy="158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438280"/>
            <a:ext cx="1521000" cy="19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89240" y="4724280"/>
            <a:ext cx="155916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419720"/>
            <a:ext cx="192708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2198520"/>
            <a:ext cx="25146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Andy Warhol in the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114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chael Jackson 1984 silkscreen will be sold at an auction on Novemb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ected to sell for $500,000 - $7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ckson"/>
          <p:cNvPicPr/>
          <p:nvPr/>
        </p:nvPicPr>
        <p:blipFill>
          <a:blip r:embed="rId1"/>
          <a:stretch/>
        </p:blipFill>
        <p:spPr>
          <a:xfrm>
            <a:off x="5486400" y="1676520"/>
            <a:ext cx="33177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Other Andy Warhol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716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3581280"/>
            <a:ext cx="2044800" cy="273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724040" cy="1515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4343400"/>
            <a:ext cx="1992240" cy="2200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59320" y="2133720"/>
            <a:ext cx="1474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Self-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47920"/>
            <a:ext cx="2062080" cy="2200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962520"/>
            <a:ext cx="147960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2133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87692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3124080" y="2133720"/>
            <a:ext cx="20383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36:35Z</dcterms:created>
  <dc:creator>Patrick Mooney</dc:creator>
  <dc:description/>
  <dc:language>en-US</dc:language>
  <cp:lastModifiedBy>Patrick Mooney</cp:lastModifiedBy>
  <dcterms:modified xsi:type="dcterms:W3CDTF">2009-11-09T22:54:42Z</dcterms:modified>
  <cp:revision>5</cp:revision>
  <dc:subject/>
  <dc:title>Andy Warhol</dc:title>
</cp:coreProperties>
</file>